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6B1-E82A-4894-97E6-99BF282F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13B-936B-44EF-917D-BB4962BA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99D54-DECC-4ED9-B7F4-5261CABD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A217C-71FF-4837-BCDD-C423B555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81450-A3C9-410D-A72F-61A07F68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59CF8-1DEB-4898-B60E-D9A4212F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E7CBD-31C1-4425-8F79-B5564AE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DF11D-3DFC-451A-9EDB-B8E7991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09565-8E58-4AC6-A076-B35AE050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EC900-3C32-4268-BFC1-7680223A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86C62-CD06-4FAE-A7C2-11141881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E9450-8A9C-4D5A-976D-57BD9CE4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DF5-C152-482F-A7DC-16E39A88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9DB1A-406B-4051-9D41-1460D318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DA9F3-D804-4B26-A910-DB973B91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78BFF-1470-4999-80EC-18EA9568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69213-E844-45B9-ABC8-BF753814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71D7C-1C5B-414E-8CD9-618C4F44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71D67-39D4-43C9-9857-BA32A45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F4A5E-4612-4E92-828A-DAA17A75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194B7-D12C-480A-98F3-2B30D4F5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94925-8702-4F34-A2BB-F15A51E9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CF03C-690E-40D1-8EA3-4ADA176E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690-A449-4F43-8B29-35A9FEE8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4A0AA-6227-4467-A624-183DBB5B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E554D-1E30-46B2-9F2A-44717191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87B3A-6865-4BE4-8B6B-377BCD4C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B5C3E-0100-4670-8BEF-6458DF17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A301B-FF28-4795-B4CB-BC8F8C18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60AC1-8775-4CFC-A788-5C93BCF3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DD78F-233A-41F0-A160-17D4AE31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37782-07B3-4D54-B0D5-461FB93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1055D-4594-4363-9894-431874A2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DD547-47D4-40A4-851B-18A5D55C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E4F-4A30-468E-BCE3-4B90E1B1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BA884-BC49-4EB6-8A12-AA3D2702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0628F-35C3-4858-BC1B-09D7EB1B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553FC-949E-4E40-9D21-AD125525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528DD-2AC4-4DEF-B9E7-EB830696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AF348-7713-4280-80BC-039D6BD2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C88C4-6B4D-4A77-8CFB-5D9E0494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C169C-A24F-432E-9EFF-F6AE8566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F235A-0E58-4011-BC9C-7C43AEAB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6FBC8-F4B8-459C-9D79-226E4E6D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64684-D1ED-41F1-8E91-94184D5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C4CE-4048-4008-B362-AA403796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9D737-FC44-430E-9013-E244031E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56727-9617-46B8-BBC9-875E08E4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2B0CE-3C47-4D41-8D5A-C9AE128B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665DF-BA14-4AAD-9AE7-D17FFD53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91E86-2DF0-4760-B693-3A3BE998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4937-9D4A-4004-B37D-7A234226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C121-C458-418A-92E2-C7F1ECF1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DE3A-8DC4-4A1F-AE34-8A15B3FD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7B82-DE62-4D33-9E7A-149D350A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5B8A-B39C-4F64-B740-B66C7570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97A-ED78-42A3-A4B7-5B6A95DF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9112-2B16-490C-9176-4ECD42FB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A2E7-352F-4F31-ADA4-7FFD3E1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55B6-FE2E-4DF4-8B5D-2A4CBD4C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4B24-FC0B-4E52-95AE-4FE3707B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5E09-CD90-416A-AAC0-B2302F57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C7F9-463D-4704-BAE5-96ECE9D6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59F0-60D9-451C-A607-FA3FE3A5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10D3-0478-44AA-A2F6-658DA8D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FB30-3A2F-4426-909E-574C571F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5C61-1299-4A0F-99FD-F94AD142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CDC-09C2-48F6-95F8-AA69BD82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586DF-20EB-4F88-817E-93952E2E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DAEA-A16A-4E37-AD45-12AD181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E0DEE-7292-4C93-925A-CD36BC1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9EE9-F421-4175-89AD-54948D4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E3532-4612-4EED-A7C5-4E2066C7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BB4C-9BE0-4319-8FD0-15F4B0AB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054B-1ACD-450C-B8A7-64F99D6F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A3D2-95D7-44E0-9F12-C5DBC287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D2F51-A6A3-4884-984D-8E6DE3E9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F288F-F33F-4AA8-BA43-D50DA97A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26F-5A90-41E7-A230-CC83F4C6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659A-E595-45AA-B4BF-21E62AAC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95901-55FE-42CE-A61F-0C2D14AB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8ED9-CE2E-44D6-925A-6D8529D9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A866-0607-4B22-92DE-9489611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ACBB1-6DD8-45F4-8024-56AE1F7A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21E7A-FB2A-4D9C-946E-93F0A097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4000-FB7B-4D4A-9CA2-8126E410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68DDF-76E4-4EE7-AA73-F7DBF02F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CC09-84BD-4880-8032-F92A5DAC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912E7-2153-4BF9-9DB7-72A8CAB0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CCC-3D35-4451-9C9C-74BFEA4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6D58-D838-4A9F-A374-3BAC9D44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C38FC-70AA-45EE-8DDA-E18A8F3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9E217-88C5-47B6-AA77-CDC6FDE7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63CF5-546A-43B7-88CA-897AECB8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3C033-73E3-4CEA-A4B2-CB54698F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2DB61-B33C-4F1C-B3DB-745D00B7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1C4BA-3134-4C5E-8DBC-8F51E233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B2E6-380B-471E-9F4A-01A0518C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435B8-89C4-4318-93EE-3C95D769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FB05F-D459-4352-A4F8-79CF375A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658-21B1-4994-BB27-3D78C252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EB355-220A-4CD3-9268-F25DAA48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2664-BBCD-48FE-997A-327B6717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36729-6A23-4EEE-8F62-AED78AAA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9D82-A83F-487B-9FAF-C00D8D85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30A4F-BC58-4B7C-A8D1-39269941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7797B-3A2A-4F09-98D8-53F093CC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D506-6B2F-4D7D-B6A8-097D1DB2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5F33-7792-44CA-9FC8-6B8D9DC5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1AB94-AFBC-4041-95AC-C8F75859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F639E-8E2A-49F8-BCCD-99275E21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204-CF30-4904-A6CA-96001D9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1E3DB-F532-4635-9508-2DE54356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72286-9D65-4607-96D3-72953D38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28C93-8BF2-4B47-B2A7-C4892723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511E-1B4C-4031-B310-3D882C9E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CBCE7-5694-4298-99FB-572BCF94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AFC89-9D27-492E-BEAE-ACB37A69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3D5C3-3A37-428A-AB7D-A733FC79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1225C-1673-442E-A8FA-4DB4AC61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7ABED-FE54-489A-AAC0-A9B7E3A3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CFDCF-514F-4F67-88EA-D6DEF8E2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6DD-D5B5-4187-8B18-57D03471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A5C8-8B98-4A83-81A1-49867622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4A46-65B1-4E53-90B4-15A2BA59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3A64A-642E-4FA2-9C31-5F0D64B1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AADF8-4A13-4E27-A812-9016A84E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C3297-714C-4607-9769-493AEA45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0448F-4849-4D71-B8CD-3697537D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12707-144F-491C-9750-732091FB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DEA22-EC7D-4940-82FD-401E9BDB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A3546-09A1-4339-826B-778FAB86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08455-FD99-4805-8F17-784C6B4F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829-6946-446B-8717-BE574BC4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5B73A-27C3-4001-BD02-F6951FBF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7C097-4709-4879-B475-52A7A45B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8B11C-5858-43EF-9981-FB61575F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999DB-EA20-44D6-BD75-9055684B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65E28-6A48-4B23-9397-4F852FE7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98889-1EBB-4843-91CE-E71A86C9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9C48E-CFF3-44C9-816F-E2DB803D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867A9-C76F-49E7-921D-08CB70C7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42A92-77D1-4AA0-9F17-A430697E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10672-6551-4F71-91A0-51D79506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E136-61B1-4796-8992-61EA430E509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7374-364D-45F4-8824-96A63B52C04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51B6-3CDD-48EE-B95A-CDFF5002973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2F60-78F3-46CC-B596-BFB924FA7F8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42A5-343C-47FE-BC90-22C19C2FE8C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BA18-FFE8-401C-8336-EFAD76A84BF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8A2F-3191-4D14-9533-E15D81CCB3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78A2-F763-4BE8-A170-6BB759FA7A0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89E1-BA74-4218-B662-1EFEE79462D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A113-573A-4F23-A6ED-7D272A190D0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89C4-DAAA-455E-BD0B-CD60B2E2647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F0B5-D651-40FC-92DE-6DF257697E2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b1e19"/>
                </a:solidFill>
                <a:latin typeface="Arial"/>
                <a:ea typeface="Arial"/>
              </a:rPr>
              <a:t>O čemu ovisi topl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o želiš zagrijati četiri litre vode do ključanja, treba li ih na štednjaku zagrijavati dulje nego što bi zagrijavao dvije litre v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2"/>
          <a:stretch/>
        </p:blipFill>
        <p:spPr>
          <a:xfrm>
            <a:off x="3048120" y="3048120"/>
            <a:ext cx="350496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8"/>
          <p:cNvSpPr/>
          <p:nvPr/>
        </p:nvSpPr>
        <p:spPr>
          <a:xfrm>
            <a:off x="1709640" y="6858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visnost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količin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opline o masi tijela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1851480" y="4191120"/>
            <a:ext cx="522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ća količina čaja dat će više top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276360" cy="23637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9"/>
          <p:cNvSpPr/>
          <p:nvPr/>
        </p:nvSpPr>
        <p:spPr>
          <a:xfrm>
            <a:off x="1411560" y="5257800"/>
            <a:ext cx="6170040" cy="642600"/>
          </a:xfrm>
          <a:prstGeom prst="rect">
            <a:avLst/>
          </a:prstGeom>
          <a:solidFill>
            <a:srgbClr val="f2dcdb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čina topline je proporcionalna masi tij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8"/>
          <p:cNvSpPr/>
          <p:nvPr/>
        </p:nvSpPr>
        <p:spPr>
          <a:xfrm>
            <a:off x="1242360" y="425520"/>
            <a:ext cx="66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visnost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količin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topline o promj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mperature tijela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877320" y="4191120"/>
            <a:ext cx="7158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veća razlika između temperature čaja i naš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a, čaj će nam dati više top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673920" y="5486400"/>
            <a:ext cx="7797600" cy="642600"/>
          </a:xfrm>
          <a:prstGeom prst="rect">
            <a:avLst/>
          </a:prstGeom>
          <a:solidFill>
            <a:srgbClr val="f2dcdb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lina je proporcionalna razlici temperatura dvaju tij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2819520" y="1995480"/>
            <a:ext cx="2895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8"/>
          <p:cNvSpPr/>
          <p:nvPr/>
        </p:nvSpPr>
        <p:spPr>
          <a:xfrm>
            <a:off x="1549440" y="609480"/>
            <a:ext cx="53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pecifični toplinski kapacitet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278280" y="1828800"/>
            <a:ext cx="8646480" cy="1739880"/>
          </a:xfrm>
          <a:prstGeom prst="rect">
            <a:avLst/>
          </a:prstGeom>
          <a:solidFill>
            <a:srgbClr val="f2dcdb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čni toplinski kapacitet za neku tvar je energija koja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rebna da se jedan kilogram te tvari zagrije za jeda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Celzi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pan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ili jedan kelvi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6"/>
          <p:cNvSpPr/>
          <p:nvPr/>
        </p:nvSpPr>
        <p:spPr>
          <a:xfrm>
            <a:off x="411840" y="34290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ak za specifični toplinski kapacitet -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jedinica  - J/(kg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5"/>
          <p:cNvSpPr/>
          <p:nvPr/>
        </p:nvSpPr>
        <p:spPr>
          <a:xfrm>
            <a:off x="1173600" y="838080"/>
            <a:ext cx="65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ecifični toplinski kapaciteti nekih tvari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295280" y="1828800"/>
          <a:ext cx="6096240" cy="3336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RSTA TV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/(kg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l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r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umin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Željez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lo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1"/>
          <p:cNvSpPr/>
          <p:nvPr/>
        </p:nvSpPr>
        <p:spPr>
          <a:xfrm>
            <a:off x="2239560" y="642960"/>
            <a:ext cx="51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Formul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za količinu to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5"/>
              <p:cNvSpPr txBox="1"/>
              <p:nvPr/>
            </p:nvSpPr>
            <p:spPr>
              <a:xfrm>
                <a:off x="990720" y="2540160"/>
                <a:ext cx="3124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6"/>
              <p:cNvSpPr txBox="1"/>
              <p:nvPr/>
            </p:nvSpPr>
            <p:spPr>
              <a:xfrm>
                <a:off x="990720" y="1752480"/>
                <a:ext cx="2209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4" name="Picture 7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2438280" cy="1781280"/>
          </a:xfrm>
          <a:prstGeom prst="rect">
            <a:avLst/>
          </a:prstGeom>
          <a:ln w="0">
            <a:noFill/>
          </a:ln>
        </p:spPr>
      </p:pic>
      <p:sp>
        <p:nvSpPr>
          <p:cNvPr id="525" name="TextBox 8"/>
          <p:cNvSpPr/>
          <p:nvPr/>
        </p:nvSpPr>
        <p:spPr>
          <a:xfrm>
            <a:off x="4246560" y="4800600"/>
            <a:ext cx="41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ija potrebna da se 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g v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agrije za 1K iznosi 4 200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2"/>
          <p:cNvSpPr/>
          <p:nvPr/>
        </p:nvSpPr>
        <p:spPr>
          <a:xfrm>
            <a:off x="196920" y="1523880"/>
            <a:ext cx="8947080" cy="13132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liko je topline potrebno da se voda mase 2 kg zagrije od ledišta do vreliš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i toplinski kapacitet vode je 4 200 J/(kg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3"/>
          <p:cNvSpPr/>
          <p:nvPr/>
        </p:nvSpPr>
        <p:spPr>
          <a:xfrm>
            <a:off x="609480" y="3048120"/>
            <a:ext cx="5181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0 ºC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0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100 ºC – 0 ºC = 100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kg ·4 200 J/(kgK) ·100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840 00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Slika 1" descr=""/>
          <p:cNvPicPr/>
          <p:nvPr/>
        </p:nvPicPr>
        <p:blipFill>
          <a:blip r:embed="rId1"/>
          <a:stretch/>
        </p:blipFill>
        <p:spPr>
          <a:xfrm>
            <a:off x="198360" y="99540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3"/>
          <p:cNvSpPr/>
          <p:nvPr/>
        </p:nvSpPr>
        <p:spPr>
          <a:xfrm>
            <a:off x="-184680" y="1676520"/>
            <a:ext cx="94100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toplina koju tijelo prim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specifični toplinski kapacit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mjerna jedinica za specifični toplinski kapacit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Uronimo u vruću vodu jednake kuglice, jednu načinjenu 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aluminija, a drugu od željeza. Nakon nekog vremena izvad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uglice iz vode. Hoće li biti zagrijane na jednaku temperatur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Slika 1" descr=""/>
          <p:cNvPicPr/>
          <p:nvPr/>
        </p:nvPicPr>
        <p:blipFill>
          <a:blip r:embed="rId1"/>
          <a:stretch/>
        </p:blipFill>
        <p:spPr>
          <a:xfrm>
            <a:off x="241200" y="990720"/>
            <a:ext cx="310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2:31Z</dcterms:created>
  <dc:creator>Slavko</dc:creator>
  <dc:description/>
  <dc:language>en-US</dc:language>
  <cp:lastModifiedBy>Tomislav Dumančić</cp:lastModifiedBy>
  <dcterms:modified xsi:type="dcterms:W3CDTF">2019-09-17T08:53:17Z</dcterms:modified>
  <cp:revision>45</cp:revision>
  <dc:subject/>
  <dc:title>Slide 1</dc:title>
</cp:coreProperties>
</file>